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6A63-F953-427F-99B3-E79C2CEDF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DF99-CA2F-409A-8496-BA8FE3D6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743F-F216-4BE9-9641-2BA6BEE23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1B11-29D7-4D7D-9C2F-215ED8B13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7C4D-CDE0-4596-9830-7C4016A0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6C01-A84D-4C76-9793-1E42E85D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D627-120D-4D13-9DB3-5A6863D4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3706-02CF-48A3-BA74-FC0BEAD4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5F28-20C8-4B18-83AF-3BE719B8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5D51-DFFD-422D-9CF7-77F2CC16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125E-348E-4991-BACA-A7BBDB5F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3F2B-CB82-40AB-80F3-ECFA810C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D0A3-4AB1-4A24-B6D9-25668601B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160880"/>
            <a:ext cx="6858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LDO </a:t>
            </a:r>
            <a:r>
              <a:rPr b="0" lang="en-US" sz="60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200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Black"/>
              </a:rPr>
              <a:t>Projeto de L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243000" y="863136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 Black"/>
              </a:rPr>
              <a:t>MAIO DE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6600" y="9201240"/>
            <a:ext cx="59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ff"/>
                </a:solidFill>
                <a:latin typeface="Arial"/>
              </a:rPr>
              <a:t>Brasília – Patrimônio Cultural da Humanid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65360" y="0"/>
            <a:ext cx="166392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4:57:14Z</dcterms:created>
  <dc:creator>441104</dc:creator>
  <dc:description/>
  <dc:language>en-US</dc:language>
  <cp:lastModifiedBy>humberto.junior</cp:lastModifiedBy>
  <dcterms:modified xsi:type="dcterms:W3CDTF">2007-05-11T19:53:31Z</dcterms:modified>
  <cp:revision>19</cp:revision>
  <dc:subject/>
  <dc:title>Slide 1</dc:title>
</cp:coreProperties>
</file>